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5351B-6290-4D89-9F4F-208EAC918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9B59F-602D-4E8B-9CF7-7772F59E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300FB-541D-4820-BBD7-691174CD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E27BE-DEF1-4B0F-9105-A2639054C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2598-756C-492E-BB05-E2A097F94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9C9A-621B-488D-970C-9B38873D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AA17-E760-4A13-B9FC-769D5BE4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BD7F-BCE5-402D-BB83-7EE116DB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D38B-B728-4CD7-BD48-82444915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F5B2-B9CD-49AA-B8D3-CDBD1AD5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4253-0A6C-4A29-84F8-C68D8F83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EC00B-DAA0-410F-B0DB-1468C1FB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224D-A8BA-4A89-93C8-58B5750D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4173-8ABC-452A-97DC-F7F7B2F4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7D19-030D-4B59-86BB-DA42B40D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82BC-EDA8-4178-87E0-EA455AF18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1D02-C250-4826-A880-E6C603565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107DF-46CF-49FC-A410-68AD3D65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E09FF-32A1-4BF4-88AC-D04C1C34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0DFD5-2765-4871-8EB6-BF355ECC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86777-C644-4727-913F-FB99DC3B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DA009-2C23-41BA-9321-CC2BCDE4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6B065-8073-47B2-9AAB-C52E574E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C8F96-F6E6-480A-B594-8DE98607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5CC6-D98E-49DA-83A2-7F52157ABE2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80F7-E636-4FBF-8959-4C4B6C0D5E98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23040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19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165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Ти, Светило на онез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що живеят в тъмнин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този дол на смъртна сянк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зведи ни в светлин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сяка мисъл зла, нечестн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и далеко разпръсн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със истина небесн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ед очите ни блесн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53208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Чакаме Твойто явлени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чакаме добро </a:t>
            </a:r>
            <a:r>
              <a:rPr b="1" lang="be-BY" sz="4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мир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и ни каниш на спасени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аниш на небесен пир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м дойди като Спасител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 греха в тоз смъртен дол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ато благ наш Утешител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 небесния престол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53136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О, Исусе, опрости н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милостта Си покаж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 Духа Си Ти. посети н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сърца ни помаж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и крепи ни в наш'та немощ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води ни в Твоя път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ал чрез Твойта свята помощ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можем стигна в райски кът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01T15:22:11Z</dcterms:modified>
  <cp:revision>124</cp:revision>
  <dc:subject/>
  <dc:title>Slide 1</dc:title>
</cp:coreProperties>
</file>